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F746-001A-4433-A69B-1336CE115F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25A5-267C-460A-B81A-04811332C9B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F30B-5505-4360-B405-8C0E37573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AA74-A553-4A86-91CB-CC3DA4C5149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D39FE-6CB2-44AA-AF2C-24097D342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9D6F-652D-4487-AE98-E2222B1B55D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46F44-323E-48E4-81CA-EA9746CBDE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0287D-BF0C-4998-BD0D-8E32AD354C9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64AC9-2BE2-454F-A3C9-AA680A53FFD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004BF-E8BD-4672-8A3E-6E7CABABAB6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5ACF0-7BC9-4263-B8CA-4D30C2A8002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67ED7-2011-4459-816E-64EA184055C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B4A1D-6E90-4886-BE6F-ADBC1564644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BF42F-A2AA-4FC8-BD60-7DAEAF52BDC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123B3-658C-412D-9F1C-88B4427AA83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CD631-7611-40D5-9453-DF182ECDD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22AF-63E5-4C6B-A200-8B53A6DDFAC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79D46-37A3-4AEF-95C0-301BEB118F2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C4C7-AC5E-45B6-9571-8EA4C2E2798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EBC75-92BA-4529-8B7F-97BBAF98617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21D8-7200-4514-965B-307EE862BAF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87FE3-B0E3-4E3F-BE35-59144704632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BB5F-A4B9-4365-8272-F1F35DC1206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0020D-5FCF-49F1-AA48-927176593EE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DD66-8BC2-4262-B4C9-F984E1B3631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E3EED-4DCB-4238-B19C-CACD3D83470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CFEFD-BB24-4DC7-A0F6-742D72676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2950-0730-4D54-941C-6A1F97A03DA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FDA9-5DB3-40EA-A3B7-887C1E08F8D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D03A3-B755-435E-9EED-1388EC14A27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E684-C8F4-485E-91C4-01E4F18624B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3ACE0-C5CF-432D-AAAF-1CE74F0BDF0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2ADF79-2DDC-4430-BB6F-2CB1729DDB2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669D34-E8F3-4C04-9FD8-18BD58C5651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C6305-4670-4B86-9FF4-658F2B76264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B460AB-7B18-4B61-9B01-A62CE448B9F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3A7693-99FD-4292-BFCD-4B0200755BE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16E518-BDF4-47FF-B98E-821074A124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72C7-60CB-46CD-B06A-9296470DBA7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0B086-4F6F-4A5A-A621-BCDDD7ACAAC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8A789-29F8-418B-A653-9C033FD1101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0F35C-DB7E-4C25-9945-E695E89E557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8E716-C550-418D-9F92-C43F5725CAE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45687-5029-46BE-AFC4-04F2C62B2C0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AB04B-79CB-434F-87BC-7950EE04682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32748-A19E-4587-B31A-9D7088E85F8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8130C-B452-4673-A43E-1F4702A0684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8E3C1-C233-47DD-A6DB-42D4DAB4F13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CA18B8-7CBA-4DA5-86D1-7AC92DE11F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4AE1-9498-40D8-9063-A121B835C86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DFFA8B-9B0E-4504-9684-4C4650B0552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88E6F6-1A26-4012-8BB2-B8D4DB7D89D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8B06EF-CE5D-4322-96FC-D36E7CB878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180309-5C02-43FC-A07C-0F3FD3FB41B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ABFBB-C8EC-46A2-AD35-022B0E3AE48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4CA62-FB15-47DF-82AA-D4F76B9A93C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16911D-BDB8-4908-A1CC-D4B7F249078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DCF57-FC84-41D3-B4E2-D3648E243ED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DD155-FCD9-420A-B3F0-65DA776D82C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35ED8-D0E5-4198-90CE-4E3FE88837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678F-E52B-4FB9-89C8-3FBD2774883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8A5A0-38C4-4F9D-88B1-331830159C4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7D9DF-3CEC-460B-AF3A-CE8F07B1482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7AACF-5758-4778-BD42-FB9839E0C1D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7144A-05AB-49A7-AF8C-E940094E017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6ED3-5B92-4DC9-80D5-4A4B9BE9CD8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BCE26-734E-43A1-AFCB-AFB79230757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06D72-D453-46AD-9316-8386739A8DC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A1523-6438-488C-A19C-2A74415BC3A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253C6-3B03-4209-9160-7E4DAB7B05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F789-BA3D-4052-818E-3D95B82BA2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BB81-B1F0-4313-99E7-8BCA99A915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4A8B-443C-4764-BB87-C7AAE0506E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A2B5-1486-4F8E-B729-F1E72C88A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F532-BC20-4A07-9AF2-EBE133B28E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8028-1C0A-4FCD-A8B3-AB2E5C824C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F9F1-5BFF-4007-ACCA-CA0E285053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89E0-A2DF-446F-BCD2-EDF5879D0D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7D84-CAE4-4D83-A706-E6404E1A5B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8C17-DC96-4DD8-BF08-2029ED9EF7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76E-CA34-4D8D-B0B9-75915C5048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8BD-90DF-42D4-A6C7-243C7C959C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8A3-FC04-4F7B-ADB8-E23E619EA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E6FE-7D0A-44AE-8E91-BF86D266DA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9BA-1DA4-4E52-BA7D-52EDA764C8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D56-A0D4-4D2A-81F5-B104117EA9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DB9-E722-4E65-9757-21DABF2FB7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548-1966-4097-B3A8-52529B69A0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346-0B59-40BE-9A92-81651B4C0B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D53-DD9E-4666-B9F6-BEAFD6176E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489-AC12-454D-A2AF-D9D5AC1353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416-08FF-4EA6-B564-D0C590117C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F48-55A5-44DA-AF4C-BDDFE18EA29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4BB39-9CAF-412E-9FDE-DF077F227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C1D3-66EA-4CAE-8845-DE53532844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617A3-3542-47C3-B0A0-570FE8135C6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A001A-6B6D-432B-9FCF-C498B08312B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E4E71-BB0B-4158-9DF0-520472D321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C20E7-3144-4BE8-8DE9-36CBFFF02A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14212-FF9C-4672-98A6-58A99615E34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D5B3A-C17B-4086-80D5-963628BECC1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F51C1-0165-4534-A33F-7F0C6A55651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AFEF3-D063-450D-9287-E4FFDAA5673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61841-0B46-40AF-93C9-4E1C11DB3FF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27746-1BD1-4DB7-B4BE-EA06D8DF5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8F19-1F66-4860-98FC-058A4DDB973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8857B-2870-4717-A5AD-AD1BD4BAD65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DC2C0-EDE9-4572-BE10-1020D895ABC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5624F-9457-4CD8-B19E-6D60314A7E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67DE7-4778-4DFC-9A6F-C00133887B0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953D1-4388-4C1E-8EFE-D6AFBB69DB8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B622E-9955-447F-A08E-DC43D070826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57E08-B823-444E-9245-5AD63373CA9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479E6-78B4-4D08-B7F8-33EE389C24E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858B8-A631-4A7A-A84E-316F8FBF30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2E73D-A3F7-4C77-BB6E-821292A3D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33CD-20F0-4748-97EF-B7066FFFEFB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AF8B8-B8E5-449A-83A1-2B1B2433189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42796-33EF-4F69-9EB4-0D03564CB5B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817CE-CCBC-4B58-9D93-E02A0F7BAB4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EAC6-E551-4856-B83A-92E852F5F0D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A9B9-93BF-403A-ACD4-35F818A7AF7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8F0A-AC30-4A88-A6B8-DA495B085E4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745E-85F4-46C3-99B9-0EF17FCCF7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8CCF-1EB9-4945-9B25-930E65904B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5454-70CE-4DEA-94E1-65A3A3D562B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B6E0-1950-4027-BEAA-2180E0FFF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1BE4-CA45-422D-AD5E-8D79E114E63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31E9-8961-4F60-BE97-6BABDFDBFFE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1F28-062D-47CD-86B8-201E2A551DE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E8FC-57B1-49B7-A0D7-36CF3C2CBD1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5A9D-B0BB-4879-8827-B25F83F6E9B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D419-7C98-4F49-8413-16088407441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2666E8-113C-4152-9471-CF0F4663B92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EE472-9FB0-4894-B8C0-B9DF7BDBC3E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2FC773-CF90-4924-B790-78D0E2A3BCE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C58B5-854D-43AF-A7BD-2498912DF3E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03F9C7-9EFE-4F85-8B0F-1418D98F1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D0B4-98D2-4356-8437-191EB912C52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49082-732D-4F15-9476-48657D05EBE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46FDD6-FCFD-4829-95E4-4C1DDB61885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9EAA3-AA22-4564-8AF3-AECA38D812C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470EC2-C7A1-473D-A46C-7ED6FCDD21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C83506-7E5D-48EF-8680-66713F19457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F5616C-E9B5-412B-99D1-269865A4F11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5A2E70-D013-494B-8E72-91126A0DD0F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D14C-55EF-492A-87E9-5C7A3475836B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9">
            <a:hlinkClick r:id="rId5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Num" idx="8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B6F6-245D-43A7-858E-F9FFE1E788A9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9">
            <a:hlinkClick r:id="rId5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Num" idx="9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222C-CD54-42EF-A723-69CC8885E847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Num" idx="10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888-DBB6-4DD3-A605-EE903E1E3655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Рисунок 7" descr="Logo_mini.png"/>
          <p:cNvPicPr/>
          <p:nvPr/>
        </p:nvPicPr>
        <p:blipFill>
          <a:blip r:embed="rId3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Num" idx="11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E934-A653-4F40-8384-EAF5F0B51249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Рисунок 7" descr="Logo_mini.png"/>
          <p:cNvPicPr/>
          <p:nvPr/>
        </p:nvPicPr>
        <p:blipFill>
          <a:blip r:embed="rId3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591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Num" idx="12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57B4-63E7-4E13-9284-61B244D96F4E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C591-31FE-4039-BD9D-62DA2CD765F1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>
            <a:hlinkClick r:id="rId2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Num" idx="3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5108-C5D8-46B9-8735-BE0822940975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Num" idx="4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A145-59DE-4A54-922E-68524333F60B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Num" idx="5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0AEA-B8F8-4FEB-8594-60578986004F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Num" idx="6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4FF5-DB3C-4D2B-9D8D-93AD70A8B542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Num" idx="7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617D-3E6A-46B5-9B5C-06A1067F57E3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3">
            <a:hlinkClick r:id="rId2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7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8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0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Прямоугольник 6"/>
          <p:cNvSpPr/>
          <p:nvPr/>
        </p:nvSpPr>
        <p:spPr>
          <a:xfrm>
            <a:off x="0" y="-214200"/>
            <a:ext cx="9144000" cy="707220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"/>
          <p:cNvSpPr/>
          <p:nvPr/>
        </p:nvSpPr>
        <p:spPr>
          <a:xfrm>
            <a:off x="938160" y="2116080"/>
            <a:ext cx="710100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Руководитель филиала ФГБУ «Россельхозцентр»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по Красноярскому краю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Малинников Алексей Валентинович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54360" cy="955800"/>
          </a:xfrm>
          <a:prstGeom prst="rect">
            <a:avLst/>
          </a:prstGeom>
          <a:ln w="0">
            <a:noFill/>
          </a:ln>
        </p:spPr>
      </p:pic>
      <p:sp>
        <p:nvSpPr>
          <p:cNvPr id="642" name="TextBox 1"/>
          <p:cNvSpPr/>
          <p:nvPr/>
        </p:nvSpPr>
        <p:spPr>
          <a:xfrm>
            <a:off x="1535040" y="29844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Министерство сельского хозяйства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оссийской Федер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"/>
          <p:cNvSpPr/>
          <p:nvPr/>
        </p:nvSpPr>
        <p:spPr>
          <a:xfrm>
            <a:off x="1500120" y="1071720"/>
            <a:ext cx="660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Федеральное государственное бюджетное учреждени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«Российский сельскохозяйственный центр»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(ФГБУ «Россельхозцентр»)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Рисунок 3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984240" cy="928800"/>
          </a:xfrm>
          <a:prstGeom prst="rect">
            <a:avLst/>
          </a:prstGeom>
          <a:ln w="0">
            <a:noFill/>
          </a:ln>
        </p:spPr>
      </p:pic>
      <p:sp>
        <p:nvSpPr>
          <p:cNvPr id="645" name="Номер слайда 1"/>
          <p:cNvSpPr/>
          <p:nvPr/>
        </p:nvSpPr>
        <p:spPr>
          <a:xfrm>
            <a:off x="0" y="6558120"/>
            <a:ext cx="539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2"/>
          <p:cNvSpPr/>
          <p:nvPr/>
        </p:nvSpPr>
        <p:spPr>
          <a:xfrm>
            <a:off x="4031280" y="58514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прель 2022 г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9"/>
          <p:cNvSpPr/>
          <p:nvPr/>
        </p:nvSpPr>
        <p:spPr>
          <a:xfrm>
            <a:off x="1619280" y="2349360"/>
            <a:ext cx="705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"/>
              </a:rPr>
              <a:t>Тема: Предварительный прогноз фитосанитарного состояния сельскохозяйственных угодий на территории Красноярского края в 2022 году. Обзор качества семян, предназначенных для посева в 2022 году в хозяйствах Красноярского кр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107640" y="189000"/>
            <a:ext cx="7559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обор урожая зерновых культур от вредителей и болезней в 2021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0" y="1125360"/>
          <a:ext cx="9036000" cy="5465880"/>
        </p:xfrm>
        <a:graphic>
          <a:graphicData uri="http://schemas.openxmlformats.org/drawingml/2006/table">
            <a:tbl>
              <a:tblPr/>
              <a:tblGrid>
                <a:gridCol w="2556000"/>
                <a:gridCol w="1152360"/>
                <a:gridCol w="1150920"/>
                <a:gridCol w="1081080"/>
                <a:gridCol w="1150920"/>
                <a:gridCol w="1044720"/>
                <a:gridCol w="900000"/>
              </a:tblGrid>
              <a:tr h="3715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ВО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обор урожая, %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многолетний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краю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точ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траль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ад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ж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 gridSpan="7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дители</a:t>
                      </a:r>
                      <a:r>
                        <a:rPr b="1" lang="ru-RU" sz="1600" spc="-1" strike="noStrike">
                          <a:solidFill>
                            <a:srgbClr val="dce6f2"/>
                          </a:solidFill>
                          <a:latin typeface="Times New Roman"/>
                          <a:ea typeface="Calibri"/>
                        </a:rPr>
                        <a:t>…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утристеблевые вредител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шеничный трип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лаковая тл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 gridSpan="7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езни</a:t>
                      </a:r>
                      <a:r>
                        <a:rPr b="1" lang="ru-RU" sz="1600" spc="-1" strike="noStrike">
                          <a:solidFill>
                            <a:srgbClr val="dce6f2"/>
                          </a:solidFill>
                          <a:latin typeface="Times New Roman"/>
                          <a:ea typeface="Calibri"/>
                        </a:rPr>
                        <a:t>…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невые гнили пшениц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пториоз пшениц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пшениц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невые гнили ячмен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льминтоспориоз ячмен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ячмень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2" name="Прямоугольник 3"/>
          <p:cNvSpPr/>
          <p:nvPr/>
        </p:nvSpPr>
        <p:spPr>
          <a:xfrm>
            <a:off x="7093080" y="1484280"/>
            <a:ext cx="1008000" cy="511344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1442-103D-4233-A678-5DCEEDB6AB98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0" y="189000"/>
            <a:ext cx="7956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обработок посевов сельскохозяйственных культур от вредителей и болезней в Красноярском крае в 2011-2021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Диаграмма 3" descr=""/>
          <p:cNvPicPr/>
          <p:nvPr/>
        </p:nvPicPr>
        <p:blipFill>
          <a:blip r:embed="rId1"/>
          <a:stretch/>
        </p:blipFill>
        <p:spPr>
          <a:xfrm>
            <a:off x="390600" y="1195560"/>
            <a:ext cx="8429400" cy="5260680"/>
          </a:xfrm>
          <a:prstGeom prst="rect">
            <a:avLst/>
          </a:prstGeom>
          <a:ln w="0">
            <a:noFill/>
          </a:ln>
        </p:spPr>
      </p:pic>
      <p:sp>
        <p:nvSpPr>
          <p:cNvPr id="696" name="Номер слайда 5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FF0D-67DD-4843-BF15-92C5A05919AB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0" y="189000"/>
            <a:ext cx="81439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Засоренность посевов сельскохозяйственных культур наиболее распространенными в крае сорняками в 2021 году по группам район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79280" y="857160"/>
          <a:ext cx="8785440" cy="5983200"/>
        </p:xfrm>
        <a:graphic>
          <a:graphicData uri="http://schemas.openxmlformats.org/drawingml/2006/table">
            <a:tbl>
              <a:tblPr/>
              <a:tblGrid>
                <a:gridCol w="3097440"/>
                <a:gridCol w="1582560"/>
                <a:gridCol w="1081080"/>
                <a:gridCol w="1079640"/>
                <a:gridCol w="1008000"/>
                <a:gridCol w="936720"/>
              </a:tblGrid>
              <a:tr h="2102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сорного растения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эфициент засоренности в крае 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ч. по группам районов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516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околистны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ь бел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аренник  цепки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шка вьюнков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 татарская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т полево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т розовы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ьюнок полево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рица запрокинут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опля сорн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стник цикутов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щ полево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уванчик лекарственн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тушья сумка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516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аковы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сюг обыкновенн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 сорно-полево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 курино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тинник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рей ползучи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9" name="Прямоугольник 3"/>
          <p:cNvSpPr/>
          <p:nvPr/>
        </p:nvSpPr>
        <p:spPr>
          <a:xfrm>
            <a:off x="7020000" y="1052640"/>
            <a:ext cx="1008000" cy="580536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0BC3-FA84-4273-83F0-A8D3CD57AE90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107640" y="189000"/>
            <a:ext cx="7272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обработок посевов сельскохозяйственных культур от сорняков в Красноярском крае в 2011-2021г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Диаграмма 7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791920" cy="5407200"/>
          </a:xfrm>
          <a:prstGeom prst="rect">
            <a:avLst/>
          </a:prstGeom>
          <a:ln w="0">
            <a:noFill/>
          </a:ln>
        </p:spPr>
      </p:pic>
      <p:sp>
        <p:nvSpPr>
          <p:cNvPr id="703" name="Номер слайда 3"/>
          <p:cNvSpPr/>
          <p:nvPr/>
        </p:nvSpPr>
        <p:spPr>
          <a:xfrm>
            <a:off x="0" y="664056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4187-E29C-449F-BC14-794ECDE9C0A0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23640" y="5084280"/>
            <a:ext cx="8569080" cy="34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из них доля препаратов,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189000"/>
            <a:ext cx="732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поступления пестицидов в Красноярском крае в 2021 году, тон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Диаграмма 5" descr=""/>
          <p:cNvPicPr/>
          <p:nvPr/>
        </p:nvPicPr>
        <p:blipFill>
          <a:blip r:embed="rId1"/>
          <a:stretch/>
        </p:blipFill>
        <p:spPr>
          <a:xfrm>
            <a:off x="1401840" y="981000"/>
            <a:ext cx="6267240" cy="3743280"/>
          </a:xfrm>
          <a:prstGeom prst="rect">
            <a:avLst/>
          </a:prstGeom>
          <a:ln w="0">
            <a:noFill/>
          </a:ln>
        </p:spPr>
      </p:pic>
      <p:pic>
        <p:nvPicPr>
          <p:cNvPr id="707" name="Диаграмма 7" descr=""/>
          <p:cNvPicPr/>
          <p:nvPr/>
        </p:nvPicPr>
        <p:blipFill>
          <a:blip r:embed="rId2"/>
          <a:stretch/>
        </p:blipFill>
        <p:spPr>
          <a:xfrm>
            <a:off x="1401840" y="5443560"/>
            <a:ext cx="5730840" cy="1231920"/>
          </a:xfrm>
          <a:prstGeom prst="rect">
            <a:avLst/>
          </a:prstGeom>
          <a:ln w="0">
            <a:noFill/>
          </a:ln>
        </p:spPr>
      </p:pic>
      <p:sp>
        <p:nvSpPr>
          <p:cNvPr id="708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094B-040B-44CC-BC1C-A5155DAE4C4B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\\192.168.10.4\файлообменник\Фото\Фото для А.В. Малинникова\IMG_20210812_140202.jpg"/>
          <p:cNvPicPr/>
          <p:nvPr/>
        </p:nvPicPr>
        <p:blipFill>
          <a:blip r:embed="rId1"/>
          <a:srcRect l="6823" t="0" r="9239" b="0"/>
          <a:stretch/>
        </p:blipFill>
        <p:spPr>
          <a:xfrm>
            <a:off x="-7920" y="0"/>
            <a:ext cx="3763800" cy="3357720"/>
          </a:xfrm>
          <a:prstGeom prst="rect">
            <a:avLst/>
          </a:prstGeom>
          <a:ln w="0">
            <a:noFill/>
          </a:ln>
        </p:spPr>
      </p:pic>
      <p:sp>
        <p:nvSpPr>
          <p:cNvPr id="710" name="Номер слайда 4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9F30-D436-457E-933C-D2E1E09E0006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4" descr="\\192.168.10.4\файлообменник\Фото\Фото для А.В. Малинникова\c5bdc342-3b4c-4b62-a764-76cb76795efd.jpg"/>
          <p:cNvPicPr/>
          <p:nvPr/>
        </p:nvPicPr>
        <p:blipFill>
          <a:blip r:embed="rId2"/>
          <a:srcRect l="0" t="0" r="0" b="4761"/>
          <a:stretch/>
        </p:blipFill>
        <p:spPr>
          <a:xfrm>
            <a:off x="-36360" y="3357720"/>
            <a:ext cx="3676320" cy="350028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 txBox="1"/>
          <p:nvPr/>
        </p:nvSpPr>
        <p:spPr>
          <a:xfrm>
            <a:off x="-36360" y="6597360"/>
            <a:ext cx="1800000" cy="26028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стадные саранчов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834920" y="4941720"/>
            <a:ext cx="208908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уговой мотылек, бабоч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801800" y="6629040"/>
            <a:ext cx="1944720" cy="2286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уговой мотылек, гусениц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3" descr="\\192.168.10.4\файлообменник\Фото\Фото для А.В. Малинникова\9d7a818d-e718-4850-9f1c-bcde6f7d7cb7.jpg"/>
          <p:cNvPicPr/>
          <p:nvPr/>
        </p:nvPicPr>
        <p:blipFill>
          <a:blip r:embed="rId3"/>
          <a:srcRect l="0" t="0" r="0" b="2093"/>
          <a:stretch/>
        </p:blipFill>
        <p:spPr>
          <a:xfrm>
            <a:off x="3630600" y="1460520"/>
            <a:ext cx="5513400" cy="539748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3850920" y="3933720"/>
            <a:ext cx="2165400" cy="2253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епториоз колоса пше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659280" y="3933720"/>
            <a:ext cx="2165400" cy="2253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учнистая роса пше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508360" y="6630480"/>
            <a:ext cx="2158920" cy="2271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узариоз колоса пше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667640" y="6630480"/>
            <a:ext cx="1512720" cy="2271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льтернариоз рап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638160" y="6630480"/>
            <a:ext cx="1870200" cy="2271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епториоз листа пшениц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39640" y="3141720"/>
            <a:ext cx="216072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псовый цветое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3" descr="\\192.168.10.4\файлообменник\Фото\Фото для А.В. Малинникова\Красноярский край, Каратузский р-он, клоп вредной черепашки, июнь 2020г..jpg"/>
          <p:cNvPicPr/>
          <p:nvPr/>
        </p:nvPicPr>
        <p:blipFill>
          <a:blip r:embed="rId4"/>
          <a:srcRect l="38703" t="32916" r="22595" b="8001"/>
          <a:stretch/>
        </p:blipFill>
        <p:spPr>
          <a:xfrm>
            <a:off x="3708360" y="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\\192.168.10.4\файлообменник\Фото\Фото для А.В. Малинникова\Красноярский край , Новосёловский район, яровой рапс, гусеница капустной моли, июль 2019г..jpg"/>
          <p:cNvPicPr/>
          <p:nvPr/>
        </p:nvPicPr>
        <p:blipFill>
          <a:blip r:embed="rId5"/>
          <a:srcRect l="30334" t="25687" r="13933" b="32042"/>
          <a:stretch/>
        </p:blipFill>
        <p:spPr>
          <a:xfrm>
            <a:off x="5508720" y="0"/>
            <a:ext cx="2609640" cy="148428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5724360" y="1268280"/>
            <a:ext cx="216072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усеница капустной мо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708000" y="1268280"/>
            <a:ext cx="180036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лоп вредная черепа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https://cstor.nn2.ru/blog/data/blog/2022-01/3295014_1641483942.jpg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57942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468360" y="1125000"/>
            <a:ext cx="7991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Прямоугольник 5"/>
          <p:cNvGrpSpPr/>
          <p:nvPr/>
        </p:nvGrpSpPr>
        <p:grpSpPr>
          <a:xfrm>
            <a:off x="4486320" y="4565520"/>
            <a:ext cx="4743360" cy="2401920"/>
            <a:chOff x="4486320" y="4565520"/>
            <a:chExt cx="4743360" cy="2401920"/>
          </a:xfrm>
        </p:grpSpPr>
        <p:pic>
          <p:nvPicPr>
            <p:cNvPr id="72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486320" y="4565520"/>
              <a:ext cx="47433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4716360" y="4797360"/>
              <a:ext cx="42832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Филиал ФГБУ «Россельхозцентр» по Красноярскому краю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г. Красноярск. Сурикова, 54 «В»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Тел. +7(391) 227-74-96,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E</a:t>
              </a:r>
              <a:r>
                <a:rPr b="1" i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-</a:t>
              </a:r>
              <a:r>
                <a:rPr b="1" i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mail</a:t>
              </a:r>
              <a:r>
                <a:rPr b="1" i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:</a:t>
              </a: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krstazr@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mail</a:t>
              </a:r>
              <a:r>
                <a:rPr b="1" i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.</a:t>
              </a:r>
              <a:r>
                <a:rPr b="1" i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ru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www.r</a:t>
              </a: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sc024.ru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Номер слайда 4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E591-8E6B-4269-AE4A-AA2A2C357F0A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19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ртовые посевы яровых зерновых и зернобобовы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ьтур в Красноярском крае за 2017-2021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-214200" y="285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324000" y="1268280"/>
          <a:ext cx="8640720" cy="5081760"/>
        </p:xfrm>
        <a:graphic>
          <a:graphicData uri="http://schemas.openxmlformats.org/drawingml/2006/table">
            <a:tbl>
              <a:tblPr/>
              <a:tblGrid>
                <a:gridCol w="2855880"/>
                <a:gridCol w="1244520"/>
                <a:gridCol w="1171440"/>
                <a:gridCol w="1098720"/>
                <a:gridCol w="1171440"/>
                <a:gridCol w="1098720"/>
              </a:tblGrid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3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еяно яровых зерновых, зернобобовых и крупяных всего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,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3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,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,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сортовых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,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,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2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6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5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ортовых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0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мпортных сорто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2" name="Номер слайда 5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6D28-C461-4F43-97E7-DFA8C30FFE7C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250920" y="1160640"/>
            <a:ext cx="8208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232920" y="1646280"/>
            <a:ext cx="8209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39400" y="2079720"/>
            <a:ext cx="82090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07640" y="189000"/>
            <a:ext cx="7218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ртовые посевы масличных культур, в том числе рапса в Красноярском крае за 2017-2021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144360" y="1068480"/>
          <a:ext cx="8891640" cy="5491080"/>
        </p:xfrm>
        <a:graphic>
          <a:graphicData uri="http://schemas.openxmlformats.org/drawingml/2006/table">
            <a:tbl>
              <a:tblPr/>
              <a:tblGrid>
                <a:gridCol w="3384720"/>
                <a:gridCol w="1224000"/>
                <a:gridCol w="1079280"/>
                <a:gridCol w="1033560"/>
                <a:gridCol w="1165320"/>
                <a:gridCol w="1004760"/>
              </a:tblGrid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032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еяно масличных культур всего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1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товых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ортовых всего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1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мпортных сортов</a:t>
                      </a:r>
                      <a:br>
                        <a:rPr sz="20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йонированных)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</a:t>
                      </a:r>
                      <a:br>
                        <a:rPr sz="20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йонированных)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(19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(20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8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593E-4A64-4146-BD56-ECA206DFFA50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178920" y="189000"/>
            <a:ext cx="7147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ртовые посадки картофеля в Красноярском кра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 2017-2021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250920" y="1125360"/>
          <a:ext cx="8642160" cy="4524480"/>
        </p:xfrm>
        <a:graphic>
          <a:graphicData uri="http://schemas.openxmlformats.org/drawingml/2006/table">
            <a:tbl>
              <a:tblPr/>
              <a:tblGrid>
                <a:gridCol w="3024000"/>
                <a:gridCol w="1225800"/>
                <a:gridCol w="1066680"/>
                <a:gridCol w="1108080"/>
                <a:gridCol w="1065240"/>
                <a:gridCol w="1152360"/>
              </a:tblGrid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1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ажено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я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5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1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0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9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сортовых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6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ортовых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мпортных сортов</a:t>
                      </a:r>
                      <a:br>
                        <a:rPr sz="20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йонированных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(50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1" name="TextBox 6"/>
          <p:cNvSpPr/>
          <p:nvPr/>
        </p:nvSpPr>
        <p:spPr>
          <a:xfrm>
            <a:off x="468360" y="587700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ктически весь картофель иностранной селекции производится в РФ, не более 2-3% завозится из-за рубеж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Номер слайда 7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A67A-4ADF-47CA-8F51-23E6061317F3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40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намика высева кондиционных семян яровых зерновых и зернобобовых культур в Красноярском крае за 2017-2021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Диаграмма 5" descr=""/>
          <p:cNvPicPr/>
          <p:nvPr/>
        </p:nvPicPr>
        <p:blipFill>
          <a:blip r:embed="rId1"/>
          <a:stretch/>
        </p:blipFill>
        <p:spPr>
          <a:xfrm>
            <a:off x="469800" y="1407960"/>
            <a:ext cx="8350200" cy="4973760"/>
          </a:xfrm>
          <a:prstGeom prst="rect">
            <a:avLst/>
          </a:prstGeom>
          <a:ln w="0">
            <a:noFill/>
          </a:ln>
        </p:spPr>
      </p:pic>
      <p:sp>
        <p:nvSpPr>
          <p:cNvPr id="665" name="Номер слайда 3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FF6D-9151-45FE-B79D-6C2C824407C0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108000" y="189000"/>
            <a:ext cx="70754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о семян яровых зерновых и зернобобовых культур, предназначенных для посева в 2022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539640" y="1052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Номер слайда 4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C674-9F7C-4A2E-8592-80F6FEFE774C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рямая соединительная линия 8"/>
          <p:cNvSpPr/>
          <p:nvPr/>
        </p:nvSpPr>
        <p:spPr>
          <a:xfrm flipV="1">
            <a:off x="5292720" y="5300640"/>
            <a:ext cx="571680" cy="5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ая соединительная линия 9"/>
          <p:cNvSpPr/>
          <p:nvPr/>
        </p:nvSpPr>
        <p:spPr>
          <a:xfrm flipV="1">
            <a:off x="2411280" y="5373360"/>
            <a:ext cx="571680" cy="57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ая соединительная линия 10"/>
          <p:cNvSpPr/>
          <p:nvPr/>
        </p:nvSpPr>
        <p:spPr>
          <a:xfrm flipV="1">
            <a:off x="3635280" y="5300640"/>
            <a:ext cx="571680" cy="5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Диаграмма 11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570880" cy="4687920"/>
          </a:xfrm>
          <a:prstGeom prst="rect">
            <a:avLst/>
          </a:prstGeom>
          <a:ln w="0">
            <a:noFill/>
          </a:ln>
        </p:spPr>
      </p:pic>
      <p:sp>
        <p:nvSpPr>
          <p:cNvPr id="673" name="Прямая соединительная линия 12"/>
          <p:cNvSpPr/>
          <p:nvPr/>
        </p:nvSpPr>
        <p:spPr>
          <a:xfrm flipV="1">
            <a:off x="1763640" y="5373360"/>
            <a:ext cx="571680" cy="57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ая соединительная линия 13"/>
          <p:cNvSpPr/>
          <p:nvPr/>
        </p:nvSpPr>
        <p:spPr>
          <a:xfrm flipV="1">
            <a:off x="2771640" y="5373720"/>
            <a:ext cx="716040" cy="719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08000" y="1160640"/>
            <a:ext cx="42480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ше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0" y="1197000"/>
            <a:ext cx="4464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ячм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189000"/>
            <a:ext cx="80280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аженность возбудителями заболеваний семян зерновых культур урожая 2011-2021 годов в Красноярском крае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Chart 1" descr=""/>
          <p:cNvPicPr/>
          <p:nvPr/>
        </p:nvPicPr>
        <p:blipFill>
          <a:blip r:embed="rId1"/>
          <a:stretch/>
        </p:blipFill>
        <p:spPr>
          <a:xfrm>
            <a:off x="0" y="1841400"/>
            <a:ext cx="4572000" cy="3894120"/>
          </a:xfrm>
          <a:prstGeom prst="rect">
            <a:avLst/>
          </a:prstGeom>
          <a:ln w="0">
            <a:noFill/>
          </a:ln>
        </p:spPr>
      </p:pic>
      <p:pic>
        <p:nvPicPr>
          <p:cNvPr id="679" name="Chart 1" descr=""/>
          <p:cNvPicPr/>
          <p:nvPr/>
        </p:nvPicPr>
        <p:blipFill>
          <a:blip r:embed="rId2"/>
          <a:stretch/>
        </p:blipFill>
        <p:spPr>
          <a:xfrm>
            <a:off x="4638600" y="1841400"/>
            <a:ext cx="4505400" cy="3894120"/>
          </a:xfrm>
          <a:prstGeom prst="rect">
            <a:avLst/>
          </a:prstGeom>
          <a:ln w="0">
            <a:noFill/>
          </a:ln>
        </p:spPr>
      </p:pic>
      <p:sp>
        <p:nvSpPr>
          <p:cNvPr id="680" name="Номер слайда 7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0784-584D-4F55-B401-8CBE6F00C447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179280" y="189000"/>
            <a:ext cx="7632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аженность возбудителями корневых гнилей семян зерновых культур урожая 2021 года в Красноярск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Диаграмма 5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791920" cy="5113440"/>
          </a:xfrm>
          <a:prstGeom prst="rect">
            <a:avLst/>
          </a:prstGeom>
          <a:ln w="0">
            <a:noFill/>
          </a:ln>
        </p:spPr>
      </p:pic>
      <p:sp>
        <p:nvSpPr>
          <p:cNvPr id="683" name="Номер слайда 3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DB0F-ACFE-4604-8F77-04D618C35D3F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107640" y="188640"/>
            <a:ext cx="7056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предпосевной обработки семян сельскохозяйственных культур в Красноярск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547640" y="1052640"/>
            <a:ext cx="5400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11-2021 годах, тыс. тон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700360" y="4723920"/>
            <a:ext cx="34560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21 году в разрезе культур,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403280" y="5084640"/>
          <a:ext cx="6121440" cy="1729080"/>
        </p:xfrm>
        <a:graphic>
          <a:graphicData uri="http://schemas.openxmlformats.org/drawingml/2006/table">
            <a:tbl>
              <a:tblPr/>
              <a:tblGrid>
                <a:gridCol w="3060720"/>
                <a:gridCol w="3060720"/>
              </a:tblGrid>
              <a:tr h="31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ультура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% к высеянным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ровая пшениц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чмень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е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рнобобовы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п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88" name="Диаграмма 8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83600" cy="3462480"/>
          </a:xfrm>
          <a:prstGeom prst="rect">
            <a:avLst/>
          </a:prstGeom>
          <a:ln w="0">
            <a:noFill/>
          </a:ln>
        </p:spPr>
      </p:pic>
      <p:sp>
        <p:nvSpPr>
          <p:cNvPr id="689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C9DA-8A0D-45D2-A83A-AF7E62F1D8C5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2:52:55Z</dcterms:created>
  <dc:creator>Polina</dc:creator>
  <dc:description/>
  <dc:language>en-US</dc:language>
  <cp:lastModifiedBy>Оксана Н. Вебер</cp:lastModifiedBy>
  <dcterms:modified xsi:type="dcterms:W3CDTF">2022-04-12T02:59:40Z</dcterms:modified>
  <cp:revision>1627</cp:revision>
  <dc:subject/>
  <dc:title>Слайд 1</dc:title>
</cp:coreProperties>
</file>